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B5126-01D1-4898-912D-C62E8CD3CE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2976480"/>
            <a:ext cx="838224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351A1-DB67-4A68-80DA-657DBF2E86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297648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297648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5D8B1-AB8E-4269-8258-07D25B37B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22220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22220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297648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297648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297648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83469-6784-4D73-99DF-0F50CA8921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583AF-4A5E-4B40-BD88-CC943F4F2C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880" y="1222200"/>
            <a:ext cx="8382240" cy="33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9909E-9827-4D8A-87F9-01C2AA4E87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199BF-6CBD-42AC-ABA4-05DB03C3B4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25409-FD7F-443D-88C1-4423145AEC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AB898-595B-492D-8FC8-30B2C08EB8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28240" y="115560"/>
            <a:ext cx="838188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869F8-0A43-458F-BBD1-5425554787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880" y="297648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DBC1D-9DD4-4D49-BF10-B44A515E9B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222200"/>
            <a:ext cx="8382240" cy="33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E674D-422C-4A42-8949-7EBEC96C9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6040" y="297648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46DAA-2523-4796-8CDD-BDB8136D36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2976480"/>
            <a:ext cx="838224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F34AB-79FC-43A8-A252-BACBC5585A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880" y="2976480"/>
            <a:ext cx="838224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B5721-DD69-4403-B417-7EB4D1E80F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297648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6040" y="297648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7BFD6-E45E-4E0A-AFC0-13B2867BF5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15160" y="122220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49440" y="122220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880" y="297648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15160" y="297648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49440" y="297648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76228-5F0A-4DED-835B-92071B83D6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EE0ED-353E-4A3F-804F-08ADDBC87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06E9F-53E9-4371-ABF7-9AC1C6571B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27036-8571-4862-A556-DEB5908C2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115560"/>
            <a:ext cx="838188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875C7-6DD3-4B44-8EC7-60C227E48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297648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2ADF4-169C-408C-8F54-676A394F8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297648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0A6C-266D-4A86-88F3-C1D2A82B5F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2976480"/>
            <a:ext cx="838224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BD58B-CA98-4912-B3DE-F29D404C0F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01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151920" y="6553080"/>
            <a:ext cx="3505320" cy="2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6 Aplix Corpor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380880" y="1222200"/>
            <a:ext cx="838224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"/>
          <p:cNvSpPr/>
          <p:nvPr/>
        </p:nvSpPr>
        <p:spPr>
          <a:xfrm>
            <a:off x="8350200" y="6553080"/>
            <a:ext cx="79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978E-1182-47B4-BBD2-133A16ED0815}" type="slidenum">
              <a:rPr b="0" lang="ja-JP" sz="1600" spc="-1" strike="noStrike">
                <a:solidFill>
                  <a:srgbClr val="3333cc"/>
                </a:solidFill>
                <a:latin typeface="Arial Blac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01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ldNum" idx="2"/>
          </p:nvPr>
        </p:nvSpPr>
        <p:spPr>
          <a:xfrm>
            <a:off x="151920" y="6553080"/>
            <a:ext cx="3505320" cy="2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6 Aplix Corpor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dsitri.de/wiki.php?page=AJZaurusUSB" TargetMode="External"/><Relationship Id="rId2" Type="http://schemas.openxmlformats.org/officeDocument/2006/relationships/hyperlink" Target="http://www.dsitri.de/wiki.php?page=AJZaurusUSB" TargetMode="External"/><Relationship Id="rId3" Type="http://schemas.openxmlformats.org/officeDocument/2006/relationships/hyperlink" Target="http://www.dsitri.de/wiki.php?page=AJZaurusUSB" TargetMode="External"/><Relationship Id="rId4" Type="http://schemas.openxmlformats.org/officeDocument/2006/relationships/hyperlink" Target="http://www.dsitri.de/wiki.php?page=AJZaurusUSB" TargetMode="External"/><Relationship Id="rId5" Type="http://schemas.openxmlformats.org/officeDocument/2006/relationships/hyperlink" Target="http://www.linux-usb.org/usbnet/" TargetMode="External"/><Relationship Id="rId6" Type="http://schemas.openxmlformats.org/officeDocument/2006/relationships/hyperlink" Target="http://www.linux-usb.org/usbnet/" TargetMode="External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eveloper.apple.com/tools/xcode/index.html" TargetMode="External"/><Relationship Id="rId2" Type="http://schemas.openxmlformats.org/officeDocument/2006/relationships/hyperlink" Target="http://developer.apple.com/tools/xcode/index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ink.sourceforge.net/" TargetMode="External"/><Relationship Id="rId2" Type="http://schemas.openxmlformats.org/officeDocument/2006/relationships/hyperlink" Target="http://fink.sourceforge.net/" TargetMode="External"/><Relationship Id="rId3" Type="http://schemas.openxmlformats.org/officeDocument/2006/relationships/hyperlink" Target="http://fink.sourceforge.net/" TargetMode="Externa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kegel.com/crosstool/" TargetMode="External"/><Relationship Id="rId2" Type="http://schemas.openxmlformats.org/officeDocument/2006/relationships/hyperlink" Target="http://www.kegel.com/crosstool/" TargetMode="External"/><Relationship Id="rId3" Type="http://schemas.openxmlformats.org/officeDocument/2006/relationships/hyperlink" Target="http://www.kegel.com/crosstool/" TargetMode="External"/><Relationship Id="rId4" Type="http://schemas.openxmlformats.org/officeDocument/2006/relationships/hyperlink" Target="http://lsb.blogdns.net/ezx-crosstool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5760" y="5672160"/>
            <a:ext cx="1363680" cy="662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7200" y="3638520"/>
            <a:ext cx="8686800" cy="0"/>
          </a:xfrm>
          <a:prstGeom prst="line">
            <a:avLst/>
          </a:prstGeom>
          <a:ln w="57240">
            <a:solidFill>
              <a:srgbClr val="5881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3657600"/>
            <a:ext cx="31543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, 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5440" y="6037920"/>
            <a:ext cx="1977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kyo Jamboree #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4400" y="3122640"/>
            <a:ext cx="4572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Cross-Development on 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0400" y="4216320"/>
            <a:ext cx="3109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ndr</a:t>
            </a:r>
            <a:r>
              <a:rPr b="1" lang="ja-JP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é Krützfel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977E3-3D93-429B-A9AC-066B069D702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at if there is an Error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221840"/>
            <a:ext cx="8382240" cy="61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Mostly errors are not really errors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he Mac uses different versions of GNU Utilities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Look at the error and see what produced it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E.g. Error in an awk-script is not the script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Use fink and install ‘gawk’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Run “./build.sh” again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Mostly the error is gone.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Unfortunately it does take hours and the “./build.sh” always starts from the beginning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6054A-8AEF-453A-919F-A86E1B893D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xpected Erro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221840"/>
            <a:ext cx="838224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here is an expected error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At the end it will complain about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PATH_MAX is undefined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his is to be ignored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ALSO (known)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Apple make does have a bug/feature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.m files are treated differently! (Objective-C)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Get a make from gnu and compile it separately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Copy it in /sw/bin do not copy it in /usr/bin!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CFD95-6C81-4525-9FEB-5FDD954382C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istributed Compil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221840"/>
            <a:ext cx="8382240" cy="390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Once you are done, you will have a cross compiler for your embedded device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If you happen to have more than one Mac, you can distribute the cross compiler and compile in your network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ool to use is‘distcc’ which is part OS X Xcode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(Very advanced, I have not tested it yet.)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B9DDA-7226-4707-B671-2854A559D8C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ross-compile Tric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54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Some developers prefer to use a different shell for the cross compilation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his assures that the builds do not interfere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E.g. ‘tcsh’ uses‘.tcshrc’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Set the PATH and other values to the target compiler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And do not forget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./configure </a:t>
            </a:r>
            <a:r>
              <a:rPr b="0" lang="en-US" sz="2600" spc="-1" strike="noStrike">
                <a:solidFill>
                  <a:srgbClr val="ff0000"/>
                </a:solidFill>
                <a:latin typeface="ＭＳ Ｐゴシック"/>
              </a:rPr>
              <a:t>--host=arm-linux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his tells configure that you are cross compiling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87FF9-3CB6-4536-8ABD-62B7E088015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t the environmen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53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he PATH must be set to the cross compiler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PATH=/opt/crosstool/gcc-3.4.5-glibc-2.3.3/arm-linux/bin:…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Also set the environment variables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AR=arm-linux-ar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CC=arm-linux-gcc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CXX=arm-linux-g++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LD=arm-linux-ld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RANLIB=arm-linux-ranlib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STRIP=arm-linux-strip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22C63-E7B9-418C-99CB-5021A05DB74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ools for Mac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iTerm as xterm substitute, it supports bookmarks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http://iterm.sourceforge.net/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55760" y="2232000"/>
            <a:ext cx="6413400" cy="407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776A1-3078-4ABB-AC7F-97C2953AD47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ools for Mac (2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96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Fugu to copy over ssh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http://rsug.itd.umich.edu/software/fugu/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88960" y="2185920"/>
            <a:ext cx="8021520" cy="418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22618-BA85-4355-8D57-EE320D0ACB5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tilities for Mac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221840"/>
            <a:ext cx="838224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Some devices use Ethernet over USB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Get the Mac driver at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1"/>
              </a:rPr>
              <a:t>http://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2"/>
              </a:rPr>
              <a:t>www.dsitri.de/wiki.php?page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3"/>
              </a:rPr>
              <a:t>=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4"/>
              </a:rPr>
              <a:t>AJZaurusUSB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Originally for the Zaurus, but works with most USBLan or USBNet enabled devices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If you want to enable a device this way, look at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5"/>
              </a:rPr>
              <a:t>http://www.linux-usb.org/usbnet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6"/>
              </a:rPr>
              <a:t>/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F8962-7F00-4BDC-A96E-0ABBBD209F2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vic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20800" y="2004840"/>
            <a:ext cx="1200240" cy="2052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971720" y="1549440"/>
            <a:ext cx="1044360" cy="2738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968640" y="1916280"/>
            <a:ext cx="1228680" cy="2508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335640" y="1566720"/>
            <a:ext cx="1936800" cy="2689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869160" y="4444920"/>
            <a:ext cx="1098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1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34720" y="4495680"/>
            <a:ext cx="1463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Rokr 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96520" y="4506840"/>
            <a:ext cx="915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7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4068B-99AF-4897-934B-39FE03B2E11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75040" y="4257720"/>
            <a:ext cx="1363680" cy="662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971800" y="5083200"/>
            <a:ext cx="3429000" cy="41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E0527-CE8B-4AD4-BF34-ABA62BF7C45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cintosh and Xco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523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OS X does come with Xcode bundled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Newest version at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1"/>
              </a:rPr>
              <a:t>http://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2"/>
              </a:rPr>
              <a:t>developer.apple.com/tools/xcode/index.htm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Includes all gnu compilers (4.0.1) and utilities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Download is about 900MB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Good for Apple development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you will need it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For embedded systems, not applicable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343DF-592A-467C-ADF3-36C77C294CA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mplete your Mac tool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245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Make your development complete!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Use fink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1"/>
              </a:rPr>
              <a:t>http://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2"/>
              </a:rPr>
              <a:t>fink.sourceforge.net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3"/>
              </a:rPr>
              <a:t>/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It installs everything under /sw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After install use FinkCommander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128680" y="3606840"/>
            <a:ext cx="5054760" cy="283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546F0-F541-48A8-8F1A-02431A14FE5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mplete your Mac tools (2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Add the fink distribution to your path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Easy: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more “test -r /sw/bin/init.sh &amp;&amp; . /sw/bin/init.s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_x001a__x001a__x001a_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h” &gt;&gt; .profile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Close your terminal window and open it again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Now the path should look like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$ echo $PATH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ＭＳ Ｐゴシック"/>
              </a:rPr>
              <a:t>/sw/bin:/sw/sbin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:/bin:/sbin:/usr/bin:/usr/local/bin: /usr/sbin:/usr/local/teTeX/bin/powerpc-apple-darwin-current:/usr/X11R6/bin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93631-3622-4C91-97EF-352F5F84688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mpile the Compile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57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Next step is to select a Cross Compiler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Best:</a:t>
            </a: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Crosstoo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1"/>
              </a:rPr>
              <a:t>http://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2"/>
              </a:rPr>
              <a:t>www.kegel.com/crosstool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3"/>
              </a:rPr>
              <a:t>/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Current version 0.42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Supports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cc-2.95, gcc-3.2.x - gcc-4.0.x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 the current build results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http://www.kegel.com/crosstool/crosstool-0.42/buildlogs/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intend to compile for Motorola devices, use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tool for EZX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4"/>
              </a:rPr>
              <a:t>http://lsb.blogdns.net/ezx-crosstoo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Current version 0.5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CE3CD-70EB-4CEA-A0CB-BFFDAFE35F7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mpiler the Compiler (2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500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Extract the downloaded files with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gzip if the file ends with .gz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bzip2 if the file ends with .bz2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(Both in fink)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Make sure you have ‘wget’ installed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the build process uses it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Check with: $ type wget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get is /sw/bin/wge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You MUST be online to do the build!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It will get the sources to compile from websites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15FE1-894E-4F8C-9FA2-35FC8ED11F2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mpiler source downloa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221840"/>
            <a:ext cx="8382240" cy="534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The scripts use wget to download the libraries and linux components defined in: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gcc-&lt;version&gt;-glib-&lt;version&gt;.dat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If you have a proxy setup, make sure that wget can work with it.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If you cannot get wget to work, just run the demo-XYZ.sh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It will try to access the sites, use &lt;ctrl&gt;-c to stop it and use a normal browser to download the needed files.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Place then into the download directory, usually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$HOME/download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Start demo-XYZ.sh again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AE52F-78FB-45FD-AFE3-34CBAA30EB9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tup the target directory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At the end you will have to install your cross compiler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Best to setup the directory and rights now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udo mkdir /opt/crosstoo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udo chown $USER /opt/crosstoo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he following script will build the Motorola cross compiler and install the result into the same directory!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3753B-13D0-49A0-8D5F-3756017E74E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ow to compile the compile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56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build.sh from ezx-crosstool derived from demo-*.sh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#!/bin/sh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set -e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CROSSTOOL_DIR=`pwd`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TARBALLS_DIR=$CROSSTOOL_DIR/downloads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ＭＳ Ｐゴシック"/>
              </a:rPr>
              <a:t>RESULT_TOP=$CROSSTOOL_DIR/gcc-arm-iwmmxt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SRC_DIR=$CROSSTOOL_DIR/src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export TARBALLS_DIR RESULT_TOP SRC_DIR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GCC_LANGUAGES="c,c++"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export GCC_LANGUAGES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# Really, you should do the mkdir before running this,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# and chown /opt/crosstool to yourself so you don't need to run as root.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mkdir -p $RESULT_TOP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# Build the toolchain.  Takes a couple hours and a couple gigabytes.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ＭＳ Ｐゴシック"/>
              </a:rPr>
              <a:t>eval `cat arm-ezx.dat gcc-3.3.6-glibc-2.3.2.dat`  sh all.sh --notest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echo Done.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F14DA-0076-4B69-9EF4-17869FE8E7A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6T07:45:29Z</dcterms:created>
  <dc:creator>Aplix Corporation</dc:creator>
  <dc:description>
</dc:description>
  <dc:language>en-US</dc:language>
  <cp:lastModifiedBy>Satoru Ueda</cp:lastModifiedBy>
  <cp:lastPrinted>2003-07-31T14:03:35Z</cp:lastPrinted>
  <dcterms:modified xsi:type="dcterms:W3CDTF">2006-05-29T00:56:01Z</dcterms:modified>
  <cp:revision>2390</cp:revision>
  <dc:subject/>
  <dc:title>平成17年12月期第1四半期決算説明会</dc:title>
</cp:coreProperties>
</file>